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51C2-047C-4451-B92C-4E7D690B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D977-5F15-4332-B6EF-8621B297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6D95-FFD3-4E89-B3EB-C69A8404C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A08C-2A73-4108-9F08-52564428B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E1D0-B86B-4FA8-9C55-BC1B5666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7363-8F9F-4F3F-A03D-90A6F999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242B-F910-4F5D-9385-0F5D30C2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F3DB-823B-4DAB-8077-DAE2B5B6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D153-7B5F-42B6-85CF-8FFA354E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7CB0-8840-4D16-8BDD-971DD9A8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9713-B33E-410B-8D51-5798D4ED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6876-8BA8-498E-9513-3538CBB2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6BA9-13EF-42A4-BE53-E094D3CB37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EF21-F9EE-4EB3-BD19-9DFB0B15D4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tencil"/>
              </a:rPr>
              <a:t>Professional </a:t>
            </a:r>
            <a:r>
              <a:rPr b="0" lang="en-US" sz="4400" spc="-1" strike="noStrike">
                <a:solidFill>
                  <a:srgbClr val="ff33cc"/>
                </a:solidFill>
                <a:latin typeface="Stencil"/>
              </a:rPr>
              <a:t>female</a:t>
            </a:r>
            <a:r>
              <a:rPr b="0" lang="en-US" sz="4400" spc="-1" strike="noStrike">
                <a:solidFill>
                  <a:srgbClr val="000000"/>
                </a:solidFill>
                <a:latin typeface="Stencil"/>
              </a:rPr>
              <a:t> surfers do it bi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Stencil"/>
              </a:rPr>
              <a:t>By: Kelsey afo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tencil"/>
              </a:rPr>
              <a:t>Who do you think of when it comes to professional surfing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radiofreemike.com/images/272.jpg"/>
          <p:cNvPicPr/>
          <p:nvPr/>
        </p:nvPicPr>
        <p:blipFill>
          <a:blip r:embed="rId1"/>
          <a:stretch/>
        </p:blipFill>
        <p:spPr>
          <a:xfrm>
            <a:off x="380880" y="1523880"/>
            <a:ext cx="2398680" cy="335304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380880" y="5029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uke Kahanamo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ttp://www.southpointepoxy.com/upload/images/CMSEditor/surfer_bongasup_main.jpg"/>
          <p:cNvPicPr/>
          <p:nvPr/>
        </p:nvPicPr>
        <p:blipFill>
          <a:blip r:embed="rId2"/>
          <a:stretch/>
        </p:blipFill>
        <p:spPr>
          <a:xfrm>
            <a:off x="2971800" y="15238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6"/>
          <p:cNvSpPr/>
          <p:nvPr/>
        </p:nvSpPr>
        <p:spPr>
          <a:xfrm>
            <a:off x="3429000" y="5029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onga Perk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www.geelongadvertiser.com.au/images/uploadedfiles/editorial/pictures/2008/03/05/kelly_slater.jpg"/>
          <p:cNvPicPr/>
          <p:nvPr/>
        </p:nvPicPr>
        <p:blipFill>
          <a:blip r:embed="rId3"/>
          <a:stretch/>
        </p:blipFill>
        <p:spPr>
          <a:xfrm>
            <a:off x="6400800" y="1523880"/>
            <a:ext cx="2451240" cy="3353040"/>
          </a:xfrm>
          <a:prstGeom prst="rect">
            <a:avLst/>
          </a:prstGeom>
          <a:ln w="0">
            <a:noFill/>
          </a:ln>
        </p:spPr>
      </p:pic>
      <p:sp>
        <p:nvSpPr>
          <p:cNvPr id="49" name="TextBox 8"/>
          <p:cNvSpPr/>
          <p:nvPr/>
        </p:nvSpPr>
        <p:spPr>
          <a:xfrm>
            <a:off x="7067520" y="502920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lly Sl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tencil"/>
              </a:rPr>
              <a:t>Well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2514600" y="45720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Stencil"/>
              </a:rPr>
              <a:t>TIMES ARE CHANG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http://www.redbullusa.com/cs/RedBull/RBImages/000/000/323/535/photo610x343a/Carissa%20Moore%2001.jpg"/>
          <p:cNvPicPr/>
          <p:nvPr/>
        </p:nvPicPr>
        <p:blipFill>
          <a:blip r:embed="rId1"/>
          <a:stretch/>
        </p:blipFill>
        <p:spPr>
          <a:xfrm>
            <a:off x="380880" y="1219320"/>
            <a:ext cx="2559240" cy="384480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705960" y="518148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rissa Mo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http://www.billabong.com/girls/global/files_blog/blog_353_img_3_md.jpg"/>
          <p:cNvPicPr/>
          <p:nvPr/>
        </p:nvPicPr>
        <p:blipFill>
          <a:blip r:embed="rId2"/>
          <a:stretch/>
        </p:blipFill>
        <p:spPr>
          <a:xfrm>
            <a:off x="3048120" y="1219320"/>
            <a:ext cx="3611520" cy="2361960"/>
          </a:xfrm>
          <a:prstGeom prst="rect">
            <a:avLst/>
          </a:prstGeom>
          <a:ln w="0">
            <a:noFill/>
          </a:ln>
        </p:spPr>
      </p:pic>
      <p:sp>
        <p:nvSpPr>
          <p:cNvPr id="55" name="TextBox 8"/>
          <p:cNvSpPr/>
          <p:nvPr/>
        </p:nvSpPr>
        <p:spPr>
          <a:xfrm>
            <a:off x="3921840" y="365760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ala Kenne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http://www.billabong.com/girls/eu/files_blog/blog_373_img_1_lg.jpg"/>
          <p:cNvPicPr/>
          <p:nvPr/>
        </p:nvPicPr>
        <p:blipFill>
          <a:blip r:embed="rId3"/>
          <a:stretch/>
        </p:blipFill>
        <p:spPr>
          <a:xfrm>
            <a:off x="5715000" y="3962520"/>
            <a:ext cx="3224160" cy="2144520"/>
          </a:xfrm>
          <a:prstGeom prst="rect">
            <a:avLst/>
          </a:prstGeom>
          <a:ln w="0">
            <a:noFill/>
          </a:ln>
        </p:spPr>
      </p:pic>
      <p:sp>
        <p:nvSpPr>
          <p:cNvPr id="57" name="TextBox 10"/>
          <p:cNvSpPr/>
          <p:nvPr/>
        </p:nvSpPr>
        <p:spPr>
          <a:xfrm>
            <a:off x="6470280" y="61722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essa Quiz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tencil"/>
              </a:rPr>
              <a:t>CARISSA MOO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www.surfermag.com/photos/images/bellsbeach07/kkkk.jpg"/>
          <p:cNvPicPr/>
          <p:nvPr/>
        </p:nvPicPr>
        <p:blipFill>
          <a:blip r:embed="rId1"/>
          <a:stretch/>
        </p:blipFill>
        <p:spPr>
          <a:xfrm>
            <a:off x="304920" y="1295280"/>
            <a:ext cx="3473280" cy="2362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assets.espn.go.com/media/motion/2009/0515/action090515RBsurfGrom.jpg"/>
          <p:cNvPicPr/>
          <p:nvPr/>
        </p:nvPicPr>
        <p:blipFill>
          <a:blip r:embed="rId2"/>
          <a:stretch/>
        </p:blipFill>
        <p:spPr>
          <a:xfrm>
            <a:off x="304920" y="3809880"/>
            <a:ext cx="3504960" cy="236232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4876920" y="1447920"/>
            <a:ext cx="3886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onsors: Red Bull Energy Drink, Nike Footwear &amp; Target &amp; Dakine Accesso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on last years Gidget Pro Sunset Beach &amp; she was a runner up finish at the Roxy Pro Gold Coast in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t 17 years old, she is a part of the ASP Women’s World T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8:27:24Z</dcterms:created>
  <dc:creator>iolanischool</dc:creator>
  <dc:description/>
  <dc:language>en-US</dc:language>
  <cp:lastModifiedBy>Information Technology</cp:lastModifiedBy>
  <dcterms:modified xsi:type="dcterms:W3CDTF">2010-05-21T09:09:32Z</dcterms:modified>
  <cp:revision>22</cp:revision>
  <dc:subject/>
  <dc:title>Professional female surfers do it big </dc:title>
</cp:coreProperties>
</file>