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DAF-F95D-4AE8-AD2E-9FD34327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2DA-D6AC-4B3E-A7B9-C19AC51C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ED4-93FF-4865-BEFA-17F5699C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BCE-DD8D-4F9E-9D37-0CEC3E79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9F5-4B70-4B37-8DB3-9D44D3B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EAE-2330-4FA6-8EA3-7E460EE6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129-EA66-4012-A638-97D4CFB7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CB7-0357-4F2D-88F8-25D03BBD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D93-A803-4374-95D3-3D469C9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80E-3030-48BE-9FA2-AA0FA77F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FF8-CD13-4C51-A5B8-A3B7429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066-B8A6-4298-A07A-6832291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A7FC-4A06-4AF7-A476-7CD607F73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E62A-0CFF-433B-9615-C4AD97C85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Professional </a:t>
            </a: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female</a:t>
            </a: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 surfers do it b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Stencil"/>
              </a:rPr>
              <a:t>By: Kelsey afo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Who do you think of when it comes to professional surfing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radiofreemike.com/images/272.jpg"/>
          <p:cNvPicPr/>
          <p:nvPr/>
        </p:nvPicPr>
        <p:blipFill>
          <a:blip r:embed="rId1"/>
          <a:stretch/>
        </p:blipFill>
        <p:spPr>
          <a:xfrm>
            <a:off x="380880" y="1523880"/>
            <a:ext cx="239868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808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ke Kahanamo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southpointepoxy.com/upload/images/CMSEditor/surfer_bongasup_main.jpg"/>
          <p:cNvPicPr/>
          <p:nvPr/>
        </p:nvPicPr>
        <p:blipFill>
          <a:blip r:embed="rId2"/>
          <a:stretch/>
        </p:blipFill>
        <p:spPr>
          <a:xfrm>
            <a:off x="2971800" y="15238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342900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nga Perk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eelongadvertiser.com.au/images/uploadedfiles/editorial/pictures/2008/03/05/kelly_slater.jpg"/>
          <p:cNvPicPr/>
          <p:nvPr/>
        </p:nvPicPr>
        <p:blipFill>
          <a:blip r:embed="rId3"/>
          <a:stretch/>
        </p:blipFill>
        <p:spPr>
          <a:xfrm>
            <a:off x="6400800" y="1523880"/>
            <a:ext cx="24512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7067520" y="50292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ly S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Wel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14600" y="4572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TIMES ARE CHAN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redbullusa.com/cs/RedBull/RBImages/000/000/323/535/photo610x343a/Carissa%20Moore%2001.jpg"/>
          <p:cNvPicPr/>
          <p:nvPr/>
        </p:nvPicPr>
        <p:blipFill>
          <a:blip r:embed="rId1"/>
          <a:stretch/>
        </p:blipFill>
        <p:spPr>
          <a:xfrm>
            <a:off x="380880" y="1219320"/>
            <a:ext cx="2559240" cy="384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05960" y="51814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issa Mo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http://www.billabong.com/girls/global/files_blog/blog_353_img_3_md.jpg"/>
          <p:cNvPicPr/>
          <p:nvPr/>
        </p:nvPicPr>
        <p:blipFill>
          <a:blip r:embed="rId2"/>
          <a:stretch/>
        </p:blipFill>
        <p:spPr>
          <a:xfrm>
            <a:off x="3048120" y="1219320"/>
            <a:ext cx="361152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921840" y="36576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ala Kenne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http://www.billabong.com/girls/eu/files_blog/blog_373_img_1_lg.jpg"/>
          <p:cNvPicPr/>
          <p:nvPr/>
        </p:nvPicPr>
        <p:blipFill>
          <a:blip r:embed="rId3"/>
          <a:stretch/>
        </p:blipFill>
        <p:spPr>
          <a:xfrm>
            <a:off x="5715000" y="3962520"/>
            <a:ext cx="3224160" cy="2144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6470280" y="6172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ssa Qui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ARISSA MO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urfermag.com/photos/images/bellsbeach07/kkkk.jpg"/>
          <p:cNvPicPr/>
          <p:nvPr/>
        </p:nvPicPr>
        <p:blipFill>
          <a:blip r:embed="rId1"/>
          <a:stretch/>
        </p:blipFill>
        <p:spPr>
          <a:xfrm>
            <a:off x="304920" y="1295280"/>
            <a:ext cx="347328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assets.espn.go.com/media/motion/2009/0515/action090515RBsurfGrom.jpg"/>
          <p:cNvPicPr/>
          <p:nvPr/>
        </p:nvPicPr>
        <p:blipFill>
          <a:blip r:embed="rId2"/>
          <a:stretch/>
        </p:blipFill>
        <p:spPr>
          <a:xfrm>
            <a:off x="304920" y="3809880"/>
            <a:ext cx="3504960" cy="2362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876920" y="144792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nsors: Red Bull Energy Drink, Nike Footwear &amp; Target &amp; Dakine Access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n last years Gidget Pro Sunset Beach &amp; she was a runner up finish at the Roxy Pro Gold Coast in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17 years old, she is a part of the ASP Women’s World 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27:24Z</dcterms:created>
  <dc:creator>iolanischool</dc:creator>
  <dc:description/>
  <dc:language>en-US</dc:language>
  <cp:lastModifiedBy>Information Technology</cp:lastModifiedBy>
  <dcterms:modified xsi:type="dcterms:W3CDTF">2010-05-21T09:09:32Z</dcterms:modified>
  <cp:revision>22</cp:revision>
  <dc:subject/>
  <dc:title>Professional female surfers do it big </dc:title>
</cp:coreProperties>
</file>