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FB0-D556-45A5-8F44-EDC7967E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E70-4868-4AF1-B921-75D2F438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E50-2E05-4AF4-B7FD-FC12C076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2E4-BDB2-430D-B544-D09419CA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F2C-9F3F-4694-B8C9-A34B2BBA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1F9-A9FC-439D-85BA-5166A0B8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88C-EDDE-4C50-B4D6-554C4099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078-9541-4B83-BE72-9A007EC0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229-CD5F-4FA2-937A-8AF334C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6A4-F6AF-4AC9-9881-53881EC2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B2C-5697-4E53-91A2-DECDCF2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94A-614C-42EE-A566-8EEE15E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C128-FA4A-48A9-B706-91801BC41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63F5-780D-452E-9E99-50BACEA22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Professional </a:t>
            </a: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female</a:t>
            </a: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 surfers do it b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Stencil"/>
              </a:rPr>
              <a:t>By: Kelsey afo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tencil"/>
              </a:rPr>
              <a:t>Who do you think of when it comes to professional surfing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radiofreemike.com/images/272.jpg"/>
          <p:cNvPicPr/>
          <p:nvPr/>
        </p:nvPicPr>
        <p:blipFill>
          <a:blip r:embed="rId1"/>
          <a:stretch/>
        </p:blipFill>
        <p:spPr>
          <a:xfrm>
            <a:off x="380880" y="1523880"/>
            <a:ext cx="2398680" cy="3353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808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ke Kahanamo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ww.southpointepoxy.com/upload/images/CMSEditor/surfer_bongasup_main.jpg"/>
          <p:cNvPicPr/>
          <p:nvPr/>
        </p:nvPicPr>
        <p:blipFill>
          <a:blip r:embed="rId2"/>
          <a:stretch/>
        </p:blipFill>
        <p:spPr>
          <a:xfrm>
            <a:off x="2971800" y="15238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342900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nga Perk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geelongadvertiser.com.au/images/uploadedfiles/editorial/pictures/2008/03/05/kelly_slater.jpg"/>
          <p:cNvPicPr/>
          <p:nvPr/>
        </p:nvPicPr>
        <p:blipFill>
          <a:blip r:embed="rId3"/>
          <a:stretch/>
        </p:blipFill>
        <p:spPr>
          <a:xfrm>
            <a:off x="6400800" y="1523880"/>
            <a:ext cx="2451240" cy="3353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7067520" y="50292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lly Sl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Well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514600" y="4572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TIMES ARE CHAN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redbullusa.com/cs/RedBull/RBImages/000/000/323/535/photo610x343a/Carissa%20Moore%2001.jpg"/>
          <p:cNvPicPr/>
          <p:nvPr/>
        </p:nvPicPr>
        <p:blipFill>
          <a:blip r:embed="rId1"/>
          <a:stretch/>
        </p:blipFill>
        <p:spPr>
          <a:xfrm>
            <a:off x="380880" y="1219320"/>
            <a:ext cx="2559240" cy="3844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705960" y="51814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issa Mo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http://www.billabong.com/girls/global/files_blog/blog_353_img_3_md.jpg"/>
          <p:cNvPicPr/>
          <p:nvPr/>
        </p:nvPicPr>
        <p:blipFill>
          <a:blip r:embed="rId2"/>
          <a:stretch/>
        </p:blipFill>
        <p:spPr>
          <a:xfrm>
            <a:off x="3048120" y="1219320"/>
            <a:ext cx="361152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921840" y="36576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ala Kenne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http://www.billabong.com/girls/eu/files_blog/blog_373_img_1_lg.jpg"/>
          <p:cNvPicPr/>
          <p:nvPr/>
        </p:nvPicPr>
        <p:blipFill>
          <a:blip r:embed="rId3"/>
          <a:stretch/>
        </p:blipFill>
        <p:spPr>
          <a:xfrm>
            <a:off x="5715000" y="3962520"/>
            <a:ext cx="3224160" cy="2144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6470280" y="6172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essa Quiz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CARISSA MO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surfermag.com/photos/images/bellsbeach07/kkkk.jpg"/>
          <p:cNvPicPr/>
          <p:nvPr/>
        </p:nvPicPr>
        <p:blipFill>
          <a:blip r:embed="rId1"/>
          <a:stretch/>
        </p:blipFill>
        <p:spPr>
          <a:xfrm>
            <a:off x="304920" y="1295280"/>
            <a:ext cx="347328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assets.espn.go.com/media/motion/2009/0515/action090515RBsurfGrom.jpg"/>
          <p:cNvPicPr/>
          <p:nvPr/>
        </p:nvPicPr>
        <p:blipFill>
          <a:blip r:embed="rId2"/>
          <a:stretch/>
        </p:blipFill>
        <p:spPr>
          <a:xfrm>
            <a:off x="304920" y="3809880"/>
            <a:ext cx="3504960" cy="2362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876920" y="1447920"/>
            <a:ext cx="38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nsors: Red Bull Energy Drink, Nike Footwear &amp; Target &amp; Dakine Access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n last years Gidget Pro Sunset Beach &amp; she was a runner up finish at the Roxy Pro Gold Coast in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17 years old, she is a part of the ASP Women’s World T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8:27:24Z</dcterms:created>
  <dc:creator>iolanischool</dc:creator>
  <dc:description/>
  <dc:language>en-US</dc:language>
  <cp:lastModifiedBy>Information Technology</cp:lastModifiedBy>
  <dcterms:modified xsi:type="dcterms:W3CDTF">2010-05-21T09:09:32Z</dcterms:modified>
  <cp:revision>22</cp:revision>
  <dc:subject/>
  <dc:title>Professional female surfers do it big </dc:title>
</cp:coreProperties>
</file>